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ADA-5C5B-406E-BAF9-5C9BA483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586-1A63-4B55-985A-143BB257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FB19-3DBF-4C25-A45C-0143371E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3501-F5C2-46A8-90A4-40772DE2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6FBB-FA0B-4CCD-A4EF-6A175A79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0863-190F-415B-9A1A-48E3A9F5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9F04-D7B9-4F73-B72E-EA6F9146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3B4A-964E-4571-A187-34E7AE3D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5F47-972C-44AC-937D-98EA9997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6EAB-8041-4AE9-AABC-863C7839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386E-BE8D-45BE-9167-7B424C08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B43-29C9-4AB6-B054-0BD9EC2C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1077-4066-4E4F-88A2-EBFA88C1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9209-2B63-4C6A-83FE-89DE7159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F027-D36B-404E-B0E1-4E4C752B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0075-02EF-4955-8888-265CC77D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AC9E-965E-4A61-B551-71D6A17A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598-5536-4159-BDC8-DD6A795C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A9A-85C3-4B6D-B5A1-82016ED0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4F4E-1907-4DAE-9BF1-9B4BE4D5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71F4-0D46-4E2F-B136-3D6090FF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063-C54C-4A35-AFE3-273AD763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16F4-FE38-48B2-9FE3-9B24A732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598-1D77-4318-8C86-192E5EE4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1F2E-88BA-4D71-BD46-E0B0E5D21B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0CE1-55E7-42AF-AB2B-5A447B5505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gi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ее выявление детей с ОВЗ и их коррекция в системе инклюзивно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логопед, сурдопеда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ладимировна Бор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х язы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атривает обучение по АООП с изменениями в содержательном и организационном разделах (программы отдельных учебных предметов, курсов коррекционно-развивающей области и курсов внеурочной деятельности, реализующиеся на основе УП), что предполагает дополнительные условия в общеобразователь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е 55. п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еятельности ПМП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особенностей и уровн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 ребенка выявлены особенност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твержденные ПМПК, квалифицируемые как ОВЗ, то такому ребенку рекомендуется обучение по образовательной программе, учитывающей его трудности, «приспособленной» к наличию особых образовательных потребностей. Такая адаптированная основная общеобразовательная программа далее будет обозначаться как АООП определенного вида, основой определения которой является клиническая сущность имеющихся у ребенка нару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ОП НОО для обучающихся с ЗП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екомендуется обучающимся, у которых отмечаются трудности произвольной саморегуляции, проявляющейся в условиях деятельности и организованного поведения, а также устойчивые признаки общей социально-эмоциональной незрелости. Кроме того, у данной категории обучающихся могут быть признаки легкой органической недостаточности центральной нервной системы (ЦНС), выражающиеся в повышенной психической истощаемости с сопутствующим снижением умственной работоспособности и устойчивости к интеллектуальным и эмоциональным нагрузкам, а также типичные, в разной степени выраженные, дисфункции в сферах пространственных представлений, зрительно-моторной координации, фонетико-фонематического развития, нейродинамики и др. Одним из важнейших условий включения обучающегося с ЗПР в среду сверстников без ограничений здоровья является устойчивость форм адаптивного поведения. Обязательным условием является психолого-педагогическое сопровождение обучающегося, согласованная работа учителя начальных классов с педагогами, реализующими программу коррекционной работы, содержание которой для каждого обучающегося определяется с учетом его особых образовательных потребностей на основе рекомендаций ПМП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дресован обучающимся с ЗПР, которые характеризуются уровнем развития ниже возрастной нормы, отставание может проявляться в целом или локально в отдельных функциях (замедленный темп или неравномерное становление познавательной деятельности). Отмечаются нарушения внимания, памяти, восприятия и других познавательных процессов, умственной работоспособности и целенаправленности деятельности, в той или иной степени затрудняющие усвоение школьных норм и школьную адаптацию в целом. Произвольность, самоконтроль, саморегуляция в поведении и деятельности, как правило, сформированы недостаточно. Обучаемость удовлетворительная, но часто избирательная и неустойчивая, зависящая от уровня сложности и субъективной привлекательности вида деятельности, а также от актуального эмоционального состояния. Возможна неадаптивность поведения, связанная как с недостаточным пониманием социальных норм, так и с нарушением эмоциональной регуляции, гиперактивностью. В этом случае предполагается, что они получают образование, сопоставимое с таковым для детей, не имеющих ограничений здоровья, в специальном классе или соответствующей образовательной организ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 (ЗП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веден   как «временная задержка психического развития»  в 60-е  и 70-е годы. Но потом слово «временная» было отброшено, так как  «задержка» и есть нечто временное. Предполагается, что  со временем темп психического развития ребенка претерпит позитивные изменения, ребенок по своему развитию догонит сверстников и его жизнь войдет в «нормальный»  режим, как возвращается в нормальный график движения поезд, нагнавший отставание в рас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сть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ИИ детства в России еже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ждается 5 - 8% детей с наследственной пат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-10 % детей имеют приобретенную пат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- 5% составляют дети-инвал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% детей имеют стертые нарушения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арушение нормального темпа психического развития, в результате чего ребенок, достигший школьного возраста, продолжает оставаться в кругу дошкольных, игровых интере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ецифическое сочетание незрелости эмоциональной и интеллектуальной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ЗП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ягощенная наследствен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логия беременности и ро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заболевания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ая эколог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ые вредности у родителей до рождения ребе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рение матери во время беремен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голизм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лная семь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ый психологический микроклимат в семье и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ональ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мат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-органического ген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отечественный и зарубежный опыт свидетельствует, что люди с нарушениями развития могут участвовать в жизни общества, реализовывать свои права и исполнять определённые обязанности, если государством и обществом создаётся среда, благоприятствующая процессам нормализации их жизни. Включение ребенка в образовательное пространство возможно только при учете его индивидуальных и специфических особенностей, что предполагает организацию диагностической и коррекционной работы с детьми на максимально раннем возрастном этап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ье 55. п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ЗПР конституционального происхождения (инфантилиз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ый тип телосложения с детской пластичностью мимики и мото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ая сфера находится на более ранней ступени развития, соответствуя психическому складу ребенка более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ЗПР конституционального происхождения (инфантилизм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монический (простой)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гармонический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ческий инфантилизм (органическое повреждение моз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ый инфанти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благоприят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правильно организованном учебном процессе быстро догоняют своих сверстников в общем психическ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генная ЗП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й незрелостью, которая обусловлена хроническими инфекциями, аллергическими заболеваниями, врожденными и приобретенными пороками соматической сферы (сердца), детскими невроз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ойкой астенией, снижающей общий, психический и эмоциональный стат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«домашние», круг общения ограничен, межличностные отношения наруш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уделяют им много внимания, ограждают от проблем, что усугубляет состояние ребенка больше, чем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ребуют санаторных условий, отдыха, сна, правильного режима питания, медикаментозного ле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состояния здоровья. Грамотное использование времени ремиссии заболевания, помощь учителей- предметников и работа по индивидуальному плану  способны компенсировать отставание и пробелы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неблагоприятными условиями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безнадзор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тологическое развитие личности с ЗПР по типу психической неустойчивости: неумение тормозить свои эмоции и желания; импульс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гиперопе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рмирование эгоцентрических устан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сихотравматических условиях воспит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ротическ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условия воспитания могут привести сначала к нарушениям вегетативных функций, затем психических, и, прежде всего, эмоционального развития. Формируется эмоционально-неустойчивая, импульсивная, внушаемая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данного расстройства – требует продолжительного времени  и совместной работы специалистов: психолога, невропатолога, психоневролога и психиатра- в отношении как детей, так и взрослых членов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чина: органическое поражение ЦНС на ранних этапах онтогенеза (патология беременности и родов, инфекции, интоксикации, травмы нервной системы в первые годы жизн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определяется тяжестью поражения  ЦНС и временем возникновения деф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рочные психолого-педагогические коррекционные мероприят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обучения этих детей снижены. Дефектологи их рекомендуют обучать в специальных классах и школах. Возможности обучения вне специального учебного заведения ограничены. В 9-10 лет у них можно наблюдать  олигофреноподобную симптомат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черты всех детей с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ная истощаемость и в результате низкая работоспособн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релость эмоц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сть в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аниченный запас представл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дный словарь, трудности звукового анализа, несформированность навыков интеллектуаль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замедле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мышлении- недостаточность словесно-логических опер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дают все виды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ходим более длительный период для приема и переработки информац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нимание неустойчив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едагог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нужен особый подход, но абсолютно такое же отношение, как к детям с нормальным разви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хранитель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людение охранительного режима при обучении детей с интеллектуальной недостаточностью будет способствовать сохранению здоровья учащихся. Заключается охранительный режим, прежде всего,  в наполняемости класса, в дозированности объема учебного материала, соблюдения  временных рамок  урока и рас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диагнозом «ЗПР» могут учиться в обычном классе  при наполняемости не более 20 человек, хорошем учебно-методическом оснащении, наличии квалифицированного педагога, который может индивидуально работать с 3-4 проблемными детьми( по мнению заведующей лаб. ИКП РАО Светланой Шевченко). Если класс большей наполняемости – это очень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необходима частая смена видов деятельности, проведение физкультминуток разной направленности, применение здоровьесберегающих технологий и т.п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хем, алгоритмов, пиктограмм, мнемотаб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4"/>
          <p:cNvSpPr/>
          <p:nvPr/>
        </p:nvSpPr>
        <p:spPr>
          <a:xfrm>
            <a:off x="2411280" y="3789360"/>
            <a:ext cx="4537080" cy="1440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5" descr="54"/>
          <p:cNvPicPr/>
          <p:nvPr/>
        </p:nvPicPr>
        <p:blipFill>
          <a:blip r:embed="rId2"/>
          <a:stretch/>
        </p:blipFill>
        <p:spPr>
          <a:xfrm>
            <a:off x="3348000" y="1960560"/>
            <a:ext cx="3032280" cy="266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anani"/>
          <p:cNvPicPr/>
          <p:nvPr/>
        </p:nvPicPr>
        <p:blipFill>
          <a:blip r:embed="rId3"/>
          <a:stretch/>
        </p:blipFill>
        <p:spPr>
          <a:xfrm>
            <a:off x="17928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4ad40ba05a"/>
          <p:cNvPicPr/>
          <p:nvPr/>
        </p:nvPicPr>
        <p:blipFill>
          <a:blip r:embed="rId4"/>
          <a:srcRect l="0" t="51083" r="0" b="0"/>
          <a:stretch/>
        </p:blipFill>
        <p:spPr>
          <a:xfrm>
            <a:off x="250920" y="3789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anani"/>
          <p:cNvPicPr/>
          <p:nvPr/>
        </p:nvPicPr>
        <p:blipFill>
          <a:blip r:embed="rId5"/>
          <a:stretch/>
        </p:blipFill>
        <p:spPr>
          <a:xfrm>
            <a:off x="179280" y="1773360"/>
            <a:ext cx="11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184ad40ba05a"/>
          <p:cNvPicPr/>
          <p:nvPr/>
        </p:nvPicPr>
        <p:blipFill>
          <a:blip r:embed="rId6"/>
          <a:srcRect l="0" t="51083" r="0" b="0"/>
          <a:stretch/>
        </p:blipFill>
        <p:spPr>
          <a:xfrm>
            <a:off x="250920" y="333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banani"/>
          <p:cNvPicPr/>
          <p:nvPr/>
        </p:nvPicPr>
        <p:blipFill>
          <a:blip r:embed="rId7"/>
          <a:stretch/>
        </p:blipFill>
        <p:spPr>
          <a:xfrm>
            <a:off x="2050920" y="189000"/>
            <a:ext cx="150840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184ad40ba05a"/>
          <p:cNvPicPr/>
          <p:nvPr/>
        </p:nvPicPr>
        <p:blipFill>
          <a:blip r:embed="rId8"/>
          <a:srcRect l="0" t="51090" r="0" b="0"/>
          <a:stretch/>
        </p:blipFill>
        <p:spPr>
          <a:xfrm>
            <a:off x="4284720" y="260280"/>
            <a:ext cx="8985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banani"/>
          <p:cNvPicPr/>
          <p:nvPr/>
        </p:nvPicPr>
        <p:blipFill>
          <a:blip r:embed="rId9"/>
          <a:stretch/>
        </p:blipFill>
        <p:spPr>
          <a:xfrm>
            <a:off x="6012000" y="189000"/>
            <a:ext cx="150804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184ad40ba05a"/>
          <p:cNvPicPr/>
          <p:nvPr/>
        </p:nvPicPr>
        <p:blipFill>
          <a:blip r:embed="rId10"/>
          <a:srcRect l="0" t="51090" r="0" b="0"/>
          <a:stretch/>
        </p:blipFill>
        <p:spPr>
          <a:xfrm>
            <a:off x="7956720" y="333360"/>
            <a:ext cx="89820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banani"/>
          <p:cNvPicPr/>
          <p:nvPr/>
        </p:nvPicPr>
        <p:blipFill>
          <a:blip r:embed="rId11"/>
          <a:stretch/>
        </p:blipFill>
        <p:spPr>
          <a:xfrm>
            <a:off x="8028000" y="1628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184ad40ba05a"/>
          <p:cNvPicPr/>
          <p:nvPr/>
        </p:nvPicPr>
        <p:blipFill>
          <a:blip r:embed="rId12"/>
          <a:srcRect l="0" t="51083" r="0" b="0"/>
          <a:stretch/>
        </p:blipFill>
        <p:spPr>
          <a:xfrm>
            <a:off x="8028000" y="364500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banani"/>
          <p:cNvPicPr/>
          <p:nvPr/>
        </p:nvPicPr>
        <p:blipFill>
          <a:blip r:embed="rId13"/>
          <a:stretch/>
        </p:blipFill>
        <p:spPr>
          <a:xfrm>
            <a:off x="781200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banani"/>
          <p:cNvPicPr/>
          <p:nvPr/>
        </p:nvPicPr>
        <p:blipFill>
          <a:blip r:embed="rId14"/>
          <a:stretch/>
        </p:blipFill>
        <p:spPr>
          <a:xfrm flipH="1" rot="533400">
            <a:off x="6733080" y="1125000"/>
            <a:ext cx="1066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2CAN"/>
          <p:cNvPicPr/>
          <p:nvPr/>
        </p:nvPicPr>
        <p:blipFill>
          <a:blip r:embed="rId15"/>
          <a:stretch/>
        </p:blipFill>
        <p:spPr>
          <a:xfrm>
            <a:off x="-1224000" y="620640"/>
            <a:ext cx="122400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3" descr="2CAN"/>
          <p:cNvPicPr/>
          <p:nvPr/>
        </p:nvPicPr>
        <p:blipFill>
          <a:blip r:embed="rId16"/>
          <a:stretch/>
        </p:blipFill>
        <p:spPr>
          <a:xfrm flipH="1">
            <a:off x="9144000" y="765000"/>
            <a:ext cx="12952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4" descr="184ad40ba05a"/>
          <p:cNvPicPr/>
          <p:nvPr/>
        </p:nvPicPr>
        <p:blipFill>
          <a:blip r:embed="rId17"/>
          <a:srcRect l="0" t="51072" r="0" b="0"/>
          <a:stretch/>
        </p:blipFill>
        <p:spPr>
          <a:xfrm>
            <a:off x="1979640" y="2997360"/>
            <a:ext cx="124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184ad40ba05a"/>
          <p:cNvPicPr/>
          <p:nvPr/>
        </p:nvPicPr>
        <p:blipFill>
          <a:blip r:embed="rId18"/>
          <a:srcRect l="0" t="51076" r="0" b="0"/>
          <a:stretch/>
        </p:blipFill>
        <p:spPr>
          <a:xfrm>
            <a:off x="3995640" y="2708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184ad40ba05a"/>
          <p:cNvPicPr/>
          <p:nvPr/>
        </p:nvPicPr>
        <p:blipFill>
          <a:blip r:embed="rId19"/>
          <a:srcRect l="0" t="51076" r="0" b="0"/>
          <a:stretch/>
        </p:blipFill>
        <p:spPr>
          <a:xfrm>
            <a:off x="4211640" y="2924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184ad40ba05a"/>
          <p:cNvPicPr/>
          <p:nvPr/>
        </p:nvPicPr>
        <p:blipFill>
          <a:blip r:embed="rId20"/>
          <a:srcRect l="0" t="51076" r="0" b="0"/>
          <a:stretch/>
        </p:blipFill>
        <p:spPr>
          <a:xfrm>
            <a:off x="3780000" y="285264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banani"/>
          <p:cNvPicPr/>
          <p:nvPr/>
        </p:nvPicPr>
        <p:blipFill>
          <a:blip r:embed="rId21"/>
          <a:stretch/>
        </p:blipFill>
        <p:spPr>
          <a:xfrm>
            <a:off x="5148360" y="2205000"/>
            <a:ext cx="792000" cy="10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0" descr="banani"/>
          <p:cNvPicPr/>
          <p:nvPr/>
        </p:nvPicPr>
        <p:blipFill>
          <a:blip r:embed="rId22"/>
          <a:stretch/>
        </p:blipFill>
        <p:spPr>
          <a:xfrm>
            <a:off x="5364000" y="2421000"/>
            <a:ext cx="792360" cy="100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1" descr="banani"/>
          <p:cNvPicPr/>
          <p:nvPr/>
        </p:nvPicPr>
        <p:blipFill>
          <a:blip r:embed="rId23"/>
          <a:stretch/>
        </p:blipFill>
        <p:spPr>
          <a:xfrm>
            <a:off x="4643280" y="2349360"/>
            <a:ext cx="792360" cy="1005120"/>
          </a:xfrm>
          <a:prstGeom prst="rect">
            <a:avLst/>
          </a:prstGeom>
          <a:ln w="0">
            <a:noFill/>
          </a:ln>
        </p:spPr>
      </p:pic>
      <p:pic>
        <p:nvPicPr>
          <p:cNvPr id="150" name="чу1034.wav" descr=""/>
          <p:cNvPicPr/>
          <p:nvPr/>
        </p:nvPicPr>
        <p:blipFill>
          <a:blip r:embed="rId2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4" descr="bird4-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3132000" y="3429000"/>
            <a:ext cx="866880" cy="9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-0.0037 C -0.0665 -0.20046 0.05365 -0.36759 0.20834 -0.37708 C 0.36303 -0.38704 0.4941 -0.23472 0.50087 -0.03796 C 0.50782 0.1588 0.38803 0.32593 0.23299 0.33542 C 0.0783 0.34491 -0.05278 0.19306 -0.05937 -0.0037 Z">
                                      <p:cBhvr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8403 L -0.5309 -0.08403 L -0.5309 0.5338 L -0.04271 0.5338 L -0.04271 -0.08403 Z">
                                      <p:cBhvr>
                                        <p:cTn id="12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158 0.30995 E">
                                      <p:cBhvr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01979 0.24189 E">
                                      <p:cBhvr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06527 0.27847 E"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1094 0.27338 E">
                                      <p:cBhvr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509 L 0.30243 0.22061 E">
                                      <p:cBhvr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-0.04323 0.25232 E">
                                      <p:cBhvr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r5-1"/>
          <p:cNvPicPr/>
          <p:nvPr/>
        </p:nvPicPr>
        <p:blipFill>
          <a:blip r:embed="rId6">
            <a:lum bright="-6000"/>
          </a:blip>
          <a:srcRect l="12244" t="0" r="14272" b="0"/>
          <a:stretch/>
        </p:blipFill>
        <p:spPr>
          <a:xfrm>
            <a:off x="971640" y="3051000"/>
            <a:ext cx="2592360" cy="2648160"/>
          </a:xfrm>
          <a:prstGeom prst="rect">
            <a:avLst/>
          </a:prstGeom>
          <a:ln w="0">
            <a:noFill/>
          </a:ln>
        </p:spPr>
      </p:pic>
      <p:pic>
        <p:nvPicPr>
          <p:cNvPr id="158" name="04108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1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0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209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8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4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0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2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261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3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условий ФГОС НОО ОВЗ является кадровое обеспечение ( Приказ №1598 и 1599 от 19.12.2014г. «Об утверждении ФГОС НОО ОВЗ» п.3.4.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обеспечение предполагает междисциплинарный состав специалистов (учитель-дефектолог, учитель-логопед, педагог-психолог), компетентных в понимании особых образовательных потре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щь педагога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 может четко структурировать поведение ребенка на уроке. Например, сделать для ребенка специальные памятки с записью алгоритма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крываешь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лушаешь, какой номер задания я назы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пускаешь глаза на страницу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пошаговый алгоритм ребенку  можно сделать 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а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ребенка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, если ребенок сидит  в зоне прямого доступа учителя. Педагог должен время от времени подходить к нему и «ставить внешние вешки», направляя его действия: Мы проходим букву «А», сейчас мы ее пишем вот здесь, отсюда и сюда. Попробуй. Хорошо, если кто-то помимо педагога будет помогать ученику в организации 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 также внешние мотивирующие подкрепления: «Вот здесь ты собрался и очень хорошо выполнил задание». Желательно сравнивать ребенка с самим собой «Вчера на третьем уроке ты был спокойнее и мы с тобой все хорошо сдела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ые методы подачи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ормы подачи материала  с учетом психофизиологических особенностей ребенка.  Чем проще и короче фраза педагога, тем выше вероятность, что ученик ее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давать ребенку больше времени на запоминание и отработку учеб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ланировании уроков  рекомендуется использовать игровые моменты. Возможно вносить отдельные  элементы игры  в учебные занятия. Дети данной категории неутомим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яркую наглядность, применять И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ача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ый материал должен подноситься небольшими дозами, его усложнение следует  осуществлять постепенно. Необходимо учить ребенка пользоваться ранее усвоенными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отношение учителя с уче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говорить с ребен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яг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брожела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ном и поощрять его за малейшие успехи.  Всеми возможными способами стимулировать  учебную активность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требуют  обязательной медикаментозной поддержки, но назначает ее врач-специа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отропные препараты (пирацетам, энцефабол, когитум, семакс, церебрум композитум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дативные препараты (фенибут, персен, магне-В6, ридази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П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недостаток развития преодолевается тем успешнее, чем раньше создаются для этого условия, в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компенсация психической недостаточности, интеллектуальных отклонений, личностного недоразвития у детей с ЗПР происходит путем упорной коррекционной работы медика, педагога, учителя-дефектолога, педагога-психолога, учителя-логопеда,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третьих, если условия массового обучения, не адаптированные к особым потребностям ребенка с ЗПР, это является тормозящим фактором  в его умственном развити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можности   компенсации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задержка развития детей  в 20% случаях при совместной работе медиков, педагогов, психологов, родителей компенсируется и развитие ребенка приближается к нормативному к 10-11 годам, в остальных случаях дети получают другой диа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-дифференциация детей с ЗПР и детей с 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, выбранного в соответствии с возра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ение смысла любой пословицы. Например: «Не имей 100 рублей, а имей 100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абстрактно-логического мышления дети с умственной отсталостью не выполнят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коэффициента умственного развития (I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ая методика Д. Векс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Д. Векслера включает 12 субтестов вербального и неверба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а на детей от 5 до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210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с ОВЗ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ети-инвалиды, либо дети в возрасте от 0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и детей с ОВЗ по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2857680"/>
            <a:ext cx="842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ти с нарушениями зрения (слепые, слабовидящ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 с нарушениями слуха (глухие, слабослышащие, позднооглохш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с тяжелыми нарушениями речи (ТН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 с нарушениями опорно-двигательного аппарата (Н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с задержкой психического развития (З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ети с нарушением интеллекта (У/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ети с расстройствами аутистического спектра (Р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ёлыми множеств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ми развития (ТМНР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ебенка сочетаются три и более первичных нарушения (умственно отсталые слабовидящие глухие дети)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 ОБРАЗОВАТЕЛЬНЫЕ ПРОГРАММЫ ДЛЯ КАТЕГОРИЙ ОБУЧАЮЩИХСЯ С ОВЗ В СООТВЕТСТВИИ С ФГОС НОО ОВЗ РАЗМЕЩЕНЫ НА ЭЛЕКТРОННОМ РЕСУР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285840"/>
          <a:ext cx="8643960" cy="6424560"/>
        </p:xfrm>
        <a:graphic>
          <a:graphicData uri="http://schemas.openxmlformats.org/drawingml/2006/table">
            <a:tbl>
              <a:tblPr/>
              <a:tblGrid>
                <a:gridCol w="5102280"/>
                <a:gridCol w="3541680"/>
              </a:tblGrid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ПРОГРАММ ФГОС НОО ОБУЧАЮЩИХ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Х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, 1.2, 1.3,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ЛЫША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, 2.2,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, 3.2, 3.3,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ВИДЯ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, 4.2, 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ТЯЖЕЛЫМИ НАРУШЕНИЯМ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, 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НАРУШЕНИЯМИ 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ЗАДЕРЖКОЙ ПСИХИЧЕСК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, 6.2, 6.3, 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,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РАССТРОЙСТВАМИ АУТИСТИЧЕСКОГО СПЕК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, 8.2, 8.3, 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УМСТВЕННОЙ ОТСТАЛОСТЬЮ(ИНТЕЛЛЕКТУАЛЬНЫМИ НАРУШЕН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ребенка выявлены особенности развития, подтвержденные ПМПК, квалифицируемые как ОВЗ, то такому ребенку рекомендуется обучение по образовательной программе, учитывающей его трудности, «приспособленной» к наличию особых образовательных потребностей. Такая адаптированная основная общеобразовательная программа (АООП), основой определения которой является клиническая сущность имеющихся у ребенка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обучающийся получает образование, полностью соответствующее по итоговым достижениям к моменту завершения обучения, образованию сверстников, находясь в их среде и в те же сроки обу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1 варианту свидетельствует о том, что ребенок обучается по общему с детьми без ОВЗ учебному плану. Его особые образовательные потребности удовлетворяются в ходе внеурочной работы. Суть потребностей и, соответственно, необходимого сопровождения, обозначена в соответствующем приложении ФГОС ООП и АООП. Конкретное содержание сопровождения устанавливается консилиумом образовательной организации(шППк ОО), ПМПК обозначает лишь основные его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арианту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 ОВЗ может быть организовано по основной образовательной программе, при необходимости –в соответствии с индивидуальным учебным планом. Обучение по индивидуальному учебному плану в пределах осваиваемых общеобразовательных программ осуществляется в порядке, установленном локальными нормативными актами образовательной организации. При прохождении обучения в соответствии с индивидуальным учебным планом его продолжительность может быть изменена образовательной организацией с учетом особенностей и образовательных потребностей конкретного обучающегося.  АООП для таких обучающихся разрабатывается в части программы коррекционной работы, которая реализуется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полагает, что обучающийся получает образование в пролонгированные сроки обучения. Обучение по второму варианту свидетельствует о том, что уровень сложности образовательной программы ниже, в учебный план включены курсы коррекционно-развивающей области, обозначенные во ФГОС и АООП. Наряду с академическими достижениями внимание обращено и к формированию сферы жизненной компетен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группа образовательной организации, созданная локальным актом, вносит необходимые дополнения в АООП, касающиеся оценки достижений в области жизненной компетенции и содержания программы коррекцион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06:38Z</dcterms:created>
  <dc:creator>user</dc:creator>
  <dc:description/>
  <dc:language>en-US</dc:language>
  <cp:lastModifiedBy>Учитель</cp:lastModifiedBy>
  <dcterms:modified xsi:type="dcterms:W3CDTF">2020-12-21T08:58:05Z</dcterms:modified>
  <cp:revision>143</cp:revision>
  <dc:subject/>
  <dc:title>Аутизм</dc:title>
</cp:coreProperties>
</file>